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B7E-B22E-4702-A74E-8EDA6E4E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A77-0183-423A-BB45-B412B6DA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60D-37B3-45A8-B8C2-F859F72E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756-AF2D-4EA2-AF83-3BD1C821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294-9ACB-42D0-ABB2-37ECC107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EFE-C0BA-4AF0-B389-DD9A74E6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10D-77D8-45DD-961E-CB01691B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6EF-43C1-419C-A999-267A1ABE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CDC-A442-4AF8-8324-2A51E503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900-DEBF-459F-AACA-36A8F27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79D-889D-448D-870C-F7165D4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1D6-FB9E-49A3-9225-9CE808B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ED8C-CEE0-4B4B-B5A4-130F02376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76840"/>
            <a:ext cx="5562720" cy="208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562720" cy="208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5627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1:30:37Z</dcterms:created>
  <dc:creator>Joel Kalb</dc:creator>
  <dc:description/>
  <dc:language>en-US</dc:language>
  <cp:lastModifiedBy>Joel Kalb</cp:lastModifiedBy>
  <dcterms:modified xsi:type="dcterms:W3CDTF">2007-05-12T21:45:19Z</dcterms:modified>
  <cp:revision>1</cp:revision>
  <dc:subject/>
  <dc:title>PowerPoint Presentation</dc:title>
</cp:coreProperties>
</file>